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399A9-1117-4C13-B835-B9888A790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5FF6C-95F3-406B-837A-A5A3765ED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67DCD-778C-4E01-AFD4-450D4524D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4D634-0BEF-4DD1-9058-6BE1B8070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759AA-DF20-40F5-A251-EEF8382DD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BEC82-63B0-4978-870D-C63571CE7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A9613-7E30-4000-8FBB-1BE9D9ACA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6BB26-5FF2-4674-A4CD-4706C09C9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D0FFE-51C1-4913-8CE2-C84B802E6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6D957-DE69-4D41-92D9-BA015C467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7E299-E017-4B23-9B2D-DECCF53A6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0F8E3-CE6E-420A-8D38-416553D2C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BD125-4D08-4821-8C6E-CD5AB5E20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C3351-1F92-4162-9176-B45979991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1790F-5AF4-460B-8733-7C2417B81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A7423-5E4A-4925-889E-AAE650081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7FD92-4F04-4619-80CC-044F46802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030B3-96FD-4A94-96C3-667B7FBA9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DC444-2C1B-4935-8C5F-EA2D05F26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ED530-34AE-4C23-A12D-019DB9A97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C5EC8-0FA2-4228-B5EF-7B8F79AC2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04929-C4C8-45A7-91D5-BB603A240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ED0C5-CCDB-460F-BD66-B43F1C297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B9EE8-1A17-4260-A86A-61109E678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20169-11D7-4E07-94A9-DDC91EF321C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C5446-15ED-4603-B9BA-EFBF75BD145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khmc.or.kr/" TargetMode="External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경희 의료원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ccff"/>
                </a:solidFill>
                <a:uFillTx/>
                <a:latin typeface="굴림"/>
                <a:hlinkClick r:id="rId2"/>
              </a:rPr>
              <a:t>http://www.khmc.or.kr/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Time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근 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7:50a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점심 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1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~ 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분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퇴근 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5:00p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단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conference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7:30am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까지 출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zh-CN" sz="4000" spc="-1" strike="noStrike">
                <a:solidFill>
                  <a:srgbClr val="e5ffff"/>
                </a:solidFill>
                <a:latin typeface="굴림"/>
              </a:rPr>
              <a:t>실습생이 지켜야 할 사항</a:t>
            </a: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근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점심시간 끝나기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분전 준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근 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modality setting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복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상의 단정 하의 면바지 신발 구두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      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남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예의 바르게 환자에게 친절하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     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System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Conference 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금요일 아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Study 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주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회진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주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번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4:30p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Case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주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번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치료실 지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운동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치료 아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방 수기 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Bobath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기타사항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점심 식사 –식권 판매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일치 만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숙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경희 의료원 앞 고시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가격 차이가 大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4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~2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repor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쌤 마다 다름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3:03:37Z</dcterms:created>
  <dc:creator>SEC</dc:creator>
  <dc:description/>
  <dc:language>en-US</dc:language>
  <cp:lastModifiedBy>SEC</cp:lastModifiedBy>
  <dcterms:modified xsi:type="dcterms:W3CDTF">2009-04-09T03:44:31Z</dcterms:modified>
  <cp:revision>3</cp:revision>
  <dc:subject/>
  <dc:title>경희 의료원</dc:title>
</cp:coreProperties>
</file>